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B54-644D-4D7B-8DD1-6C3CBADA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C37-BFEC-45CB-85CE-BF6A5F3F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10F-F6C8-489C-AA5E-585C16F9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630-0D94-47E0-A5D7-6B0699B7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659-90BD-44EE-A8BD-F5FA865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9C3-50EF-4D61-A677-4AB0FC92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51DD-983C-4AA4-96B8-4FE6882E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42C-4962-465A-901B-7F2586DD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33D-0FBC-4625-8DF7-273E1D49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84A-7784-4C7A-8852-94BAE6D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CF8-81D1-4BE8-A1B8-5DE98B6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86AF-7B5E-48CE-BA9A-4379E7AF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971-5686-4CB2-85F5-D41D50EE6751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5280" y="4076640"/>
            <a:ext cx="5508720" cy="335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900" spc="-1" strike="noStrike">
                <a:solidFill>
                  <a:srgbClr val="ffffff"/>
                </a:solidFill>
                <a:latin typeface="Times New Roman"/>
                <a:cs typeface="????Boutros Rokaa"/>
              </a:rPr>
              <a:t>يا سيدي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أَلتَ ماءً، ذُقْتَ خَلاً ذُقتَ كُلَّ مَرَارْ 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لَتْ دِمَاكَ مِنْ حَشاكَ لتَفتَدِي الأَشر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َوقَ الصلِّيبِ يا حَبيبي كَمْ لَقِيتَ آلامْ 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ِمَّنْ تَمادَوْا في إِيذَائِكَ وقَدْ غَفَرْتَ آثَام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00360" y="0"/>
            <a:ext cx="6443640" cy="713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َل كُلُّ هذا يا إِلَهي كَيْ تُعِيدُني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لى حِمَاكَ أَحْيا مَعَكَ وتُعَزِّيني،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00360" y="0"/>
            <a:ext cx="6443640" cy="853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لَيْتَ قَلبِي يَدْنُو مِنْكَ فَأَفُوزُ بكَ،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َحْيا لأجلِكَ أَمِيناً خَاضِعاً لَكَ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00360" y="0"/>
            <a:ext cx="6443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يا سيِّدي كَمْ كانَ قاسياً مَوتُ صَليبِ العارْ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قبلَ أنْ يَحمِلَكَ</a:t>
            </a:r>
            <a:br>
              <a:rPr sz="6600"/>
            </a:b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َمَلْتَهُ يا بَار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2T20:03:11Z</dcterms:created>
  <dc:creator>Charbel Azar</dc:creator>
  <dc:description/>
  <dc:language>en-US</dc:language>
  <cp:lastModifiedBy>ف</cp:lastModifiedBy>
  <dcterms:modified xsi:type="dcterms:W3CDTF">2006-04-11T20:19:27Z</dcterms:modified>
  <cp:revision>12</cp:revision>
  <dc:subject/>
  <dc:title>Slide 1</dc:title>
</cp:coreProperties>
</file>